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D0E8-6682-4871-84DD-37BB3FB3E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19CC1-9C5D-4907-AE25-5BC5D7FB99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18EAC-5017-470D-8C03-B1FA960664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A2820-58B1-4060-9811-8B56A8D233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B5B24-E95F-440C-BF84-F324E7A080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7CC02-71F4-406F-8DF3-2D18EAD4C9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B23DA-5B5F-48E6-B24B-3C177C8161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58F77-402F-41BD-A902-3DF728B388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98E47-2F19-4191-BDFC-A574FBC579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6A6-F343-4DC2-8F25-A50B0465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31B-06BE-46AF-968B-48845C0F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7FA-3216-4951-AAAA-8989A79E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C93-C866-4114-B10B-4B3497E9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1DF-BA52-4241-B317-32AD00C9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12A-B708-4203-A06A-8AE2A043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641-43B9-4E7C-A943-83FE12E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E63-2A7C-4A50-BA00-2A49FE4A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AF4-3458-415D-A62D-082EA67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DAC-92BB-4CF8-92B4-3D2C17C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952-88E8-44B9-8107-207FF19F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7C6-4FA4-4F96-A24F-DEEA1B0D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FA383-B426-4C81-A81A-16458271C8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-360360" y="1403280"/>
            <a:ext cx="112456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When I Survey /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773280" y="1874880"/>
            <a:ext cx="88390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en I survey the wondrous cros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n which the Prince of glory died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My richest gain I count but loss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68360" y="1798560"/>
            <a:ext cx="914400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ee from His head, His hands, His f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orrow and love flow mingled down!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id e’er such love and sorrow m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06640" y="1341360"/>
            <a:ext cx="7914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ere the whole realm of nature m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were a present far too small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773280" y="137952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88680" y="808200"/>
            <a:ext cx="69472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cwade</cp:lastModifiedBy>
  <dcterms:modified xsi:type="dcterms:W3CDTF">2014-01-26T08:05:08Z</dcterms:modified>
  <cp:revision>6</cp:revision>
  <dc:subject/>
  <dc:title>Slide 1</dc:title>
</cp:coreProperties>
</file>